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E57F93-49E2-4069-B836-D8CBE68B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D844A6-79D7-43C3-971F-363D8AA8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F6CE41-BA50-4323-A6EB-9CD51EE8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0D92DC-0688-4E1F-8397-8644C90D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F49697-2C1F-4AFB-98FD-7E6F46DA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D38653-0E39-44C8-A35F-9ACB8E3E8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647212-2A7B-4F11-B402-55B3B4E17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6C1E1F-6F91-4CAB-9708-A2F7B77E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C3C576-8D0B-4F0B-9923-50E24EE1E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A46CA0-3528-4580-B53B-AC9DF29A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0E3DC1-2E79-4631-B8D9-7835A04F0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26AFE8-A9A5-41D6-9547-2237A028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A089B0-317E-4785-9BD1-A90B9F131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592907-7C99-46C5-AD7F-F8723A3A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my scaffolds don’t give it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900EDE-D08D-46B2-825F-5B70C043F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F012D1-408A-476F-B83F-80E76742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9E5E13-46CE-430A-870D-B994F0F7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A8426D-6D4F-4E52-9A9B-0F67B805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A50C95-1423-4EF4-AF53-BCFDBCD7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95A906-0F3E-480B-B44F-5390E2500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3D9EA0-C6B1-447F-83FF-105D83BE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5AD95B-6AB7-4D98-9962-8973B402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measuring algebraic expressions for general term, but yes for term value/term number relationships or predicting 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1257A7-B1C6-4AED-AD41-2C0AC64C3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E807BC-6BEF-460C-B7E5-09EE2D08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032639-1B80-4832-93BC-6CF94B7B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B539FF-35B0-41DC-BABD-CE0DFF0E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66AC61-54E3-445E-BD0C-18196217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690A6C-338F-4E72-A053-D3C004F4B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97F246-BFFF-40F2-B5CB-A763A2069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DF07EE-1A1B-4F5D-9C77-8A0ADFBA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484A7A-D189-4902-9AB4-905E8935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ADA617-AECA-4335-86E9-DE817942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F8113B-C82D-480F-AF19-32FDE1AEB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CE068C-95BA-476C-8A98-20337B20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D67353-1B56-40B3-A3F8-58F71E97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at these scaffolds don’t tell the kid what to do– they keep them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148A59-7F88-4D46-8324-B04106C6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C0B488-4046-48DE-83D1-8BA3C77E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13E71C-5983-4E54-8DEA-ACBE29C4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25A4B0-6A19-4318-820B-D0CE40D4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5A795F-5E6A-48AA-B694-0B4028B4B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613A40-F3AF-494D-B795-8F97AE04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655EF1-1055-427A-AC41-937A68486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B0D318-3072-48C3-BE0C-E6693530E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F9B87E-08D5-464E-8D8F-0A9443E64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C563CA-1669-480E-BD7D-E48A122A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F9BBB1-4A1C-4178-A092-6F0C20FE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280-C186-4641-933A-D5F03E50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E97-177E-4A0B-ADBE-44DA965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5F5-EED9-4C6E-AE9D-6009C380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ABB-7564-484A-94D1-5B1667FB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670A-2998-4C06-BFDF-6CC6F609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4BD0-A4C1-47BA-966A-FEA9742D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E1A7-FC14-474D-BAEB-7B23FDFF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B750-3443-425E-BF4A-6EE8EA51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8E74-1B38-4595-8938-65B1B79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F776-6804-4225-B713-D441FE1A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731-392F-4CFD-9730-28EF74B3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D81-38C8-4B37-A37A-8AC43F01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958F-CC72-4272-8580-FE3271A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58F1-A6D9-40F6-A61B-17CBF13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4F24-F586-43C0-8C57-18B5832D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27B9-2B1A-4B5B-BBAF-B53C32F0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416D-4188-466B-85DE-BE551700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B8C-D5FA-4E9A-8075-8063CCD3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459-4920-4A05-BF11-1BD7FC8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562-5261-4ACA-8ABC-859473B3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455-35D1-42A6-A246-8DC0A78F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FD6-E095-4315-BBFF-12824304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C81-2AB6-4523-BA20-91867B8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8B9-D202-4492-A027-15C0849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08DD-39F6-499E-93D7-F30233F470B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33BB-70C0-4FBC-8F5B-622B9F66231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2666880" y="5337000"/>
            <a:ext cx="5715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lenary 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73000" y="39621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B29-C8CA-4622-BC4B-157EBF736B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143000" y="24382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other relationship might always be tru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3191-146E-4878-91E0-A2A01A1E01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oose your relationship and draw the pictur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est it by seeing if someone else gets i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 t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F22C-B78A-4632-9605-1D12959CCC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(x +3) = 2x + 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ne possible 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6"/>
          <p:cNvGrpSpPr/>
          <p:nvPr/>
        </p:nvGrpSpPr>
        <p:grpSpPr>
          <a:xfrm>
            <a:off x="1676520" y="3581280"/>
            <a:ext cx="4952880" cy="825840"/>
            <a:chOff x="1676520" y="3581280"/>
            <a:chExt cx="4952880" cy="825840"/>
          </a:xfrm>
        </p:grpSpPr>
        <p:sp>
          <p:nvSpPr>
            <p:cNvPr id="161" name="Rectangle 5"/>
            <p:cNvSpPr/>
            <p:nvPr/>
          </p:nvSpPr>
          <p:spPr>
            <a:xfrm>
              <a:off x="167652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358128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8640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86764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624852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1"/>
            <p:cNvSpPr/>
            <p:nvPr/>
          </p:nvSpPr>
          <p:spPr>
            <a:xfrm>
              <a:off x="228600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2"/>
            <p:cNvSpPr/>
            <p:nvPr/>
          </p:nvSpPr>
          <p:spPr>
            <a:xfrm>
              <a:off x="426744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3"/>
            <p:cNvSpPr/>
            <p:nvPr/>
          </p:nvSpPr>
          <p:spPr>
            <a:xfrm>
              <a:off x="548640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4"/>
            <p:cNvSpPr/>
            <p:nvPr/>
          </p:nvSpPr>
          <p:spPr>
            <a:xfrm>
              <a:off x="586764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5"/>
            <p:cNvSpPr/>
            <p:nvPr/>
          </p:nvSpPr>
          <p:spPr>
            <a:xfrm>
              <a:off x="624852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167652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7"/>
            <p:cNvSpPr/>
            <p:nvPr/>
          </p:nvSpPr>
          <p:spPr>
            <a:xfrm>
              <a:off x="358128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8"/>
            <p:cNvSpPr/>
            <p:nvPr/>
          </p:nvSpPr>
          <p:spPr>
            <a:xfrm>
              <a:off x="548640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9"/>
            <p:cNvSpPr/>
            <p:nvPr/>
          </p:nvSpPr>
          <p:spPr>
            <a:xfrm>
              <a:off x="586764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0"/>
            <p:cNvSpPr/>
            <p:nvPr/>
          </p:nvSpPr>
          <p:spPr>
            <a:xfrm>
              <a:off x="624852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21"/>
            <p:cNvSpPr/>
            <p:nvPr/>
          </p:nvSpPr>
          <p:spPr>
            <a:xfrm>
              <a:off x="228600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2"/>
            <p:cNvSpPr/>
            <p:nvPr/>
          </p:nvSpPr>
          <p:spPr>
            <a:xfrm>
              <a:off x="426744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23"/>
            <p:cNvSpPr/>
            <p:nvPr/>
          </p:nvSpPr>
          <p:spPr>
            <a:xfrm>
              <a:off x="548640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4"/>
            <p:cNvSpPr/>
            <p:nvPr/>
          </p:nvSpPr>
          <p:spPr>
            <a:xfrm>
              <a:off x="586764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5"/>
            <p:cNvSpPr/>
            <p:nvPr/>
          </p:nvSpPr>
          <p:spPr>
            <a:xfrm>
              <a:off x="624852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A451-2C95-4C42-B7A9-3558686EE9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x+1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x +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nother possible 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4"/>
          <p:cNvGrpSpPr/>
          <p:nvPr/>
        </p:nvGrpSpPr>
        <p:grpSpPr>
          <a:xfrm>
            <a:off x="3505320" y="3352680"/>
            <a:ext cx="1295280" cy="1141920"/>
            <a:chOff x="3505320" y="3352680"/>
            <a:chExt cx="1295280" cy="1141920"/>
          </a:xfrm>
        </p:grpSpPr>
        <p:sp>
          <p:nvSpPr>
            <p:cNvPr id="185" name="Rectangle 26"/>
            <p:cNvSpPr/>
            <p:nvPr/>
          </p:nvSpPr>
          <p:spPr>
            <a:xfrm>
              <a:off x="3505320" y="335268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4419720" y="335268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8"/>
            <p:cNvSpPr/>
            <p:nvPr/>
          </p:nvSpPr>
          <p:spPr>
            <a:xfrm rot="5400000">
              <a:off x="3886200" y="388584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9"/>
            <p:cNvSpPr/>
            <p:nvPr/>
          </p:nvSpPr>
          <p:spPr>
            <a:xfrm rot="5400000">
              <a:off x="4419360" y="426708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0"/>
            <p:cNvSpPr/>
            <p:nvPr/>
          </p:nvSpPr>
          <p:spPr>
            <a:xfrm>
              <a:off x="373392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1"/>
            <p:cNvSpPr/>
            <p:nvPr/>
          </p:nvSpPr>
          <p:spPr>
            <a:xfrm>
              <a:off x="434340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32"/>
            <p:cNvSpPr/>
            <p:nvPr/>
          </p:nvSpPr>
          <p:spPr>
            <a:xfrm>
              <a:off x="373392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33"/>
            <p:cNvSpPr/>
            <p:nvPr/>
          </p:nvSpPr>
          <p:spPr>
            <a:xfrm>
              <a:off x="4343400" y="4126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CE7-E774-42A7-813C-2DB9130307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243828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st of the scaffolds we just saw were quite problem specific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ften, general scaffolds are also helpful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General &amp; specific scaffol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3A57-BB74-4610-9744-E3855719DC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243828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me of you used “popsicle” sticks for thi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l of you used question stems in your FCCF group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General &amp; specific scaffol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6391-637C-4E75-BE2A-7C8030A900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" y="23623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useful source is available in the mathematical process package of TIPS on the EDUGAINS websit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General &amp; specific scaffol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543A-44E1-4A2E-8E77-33E9E467BB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828800"/>
            <a:ext cx="7848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have you seen something like this befo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patterns do you se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ve you thought abou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E9D9-FA09-428E-BECE-F23A9FBA2B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5800" y="1676520"/>
            <a:ext cx="7772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ask: You graph 2 lines. The 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is 3x + 2y = 6 and the 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is –x + 3y = 17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third line lies between them. What might its equation b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nothe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8A2-1475-4068-BD76-B8E0E3AFDD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2F77-6D92-4354-8C0F-453B8485D6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752480"/>
            <a:ext cx="86104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ppose…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ask an open ques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body respond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thing we need to work on are strategies to use in that situation. Try this problem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caffol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9DB0-DF98-44C3-B229-3E7E81845A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57200" y="1828800"/>
            <a:ext cx="80010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think the new slope will be positive or negative? 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think it would help to graph the two lines you are given? Do you have t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8088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are some scaffold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500-2D36-4712-84BF-870DA4CD4E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85800" y="1752480"/>
            <a:ext cx="77724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uld it help to decide its intercept first or its slope first to get its equatio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graph the new line, how would you calculate the slop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are some scaffold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03F7-13FC-436A-8A77-F202626F44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4"/>
          <p:cNvSpPr/>
          <p:nvPr/>
        </p:nvSpPr>
        <p:spPr>
          <a:xfrm>
            <a:off x="0" y="1981080"/>
            <a:ext cx="9144000" cy="160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7"/>
          <p:cNvSpPr/>
          <p:nvPr/>
        </p:nvSpPr>
        <p:spPr>
          <a:xfrm>
            <a:off x="0" y="1219320"/>
            <a:ext cx="8839080" cy="3657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9"/>
          <p:cNvSpPr/>
          <p:nvPr/>
        </p:nvSpPr>
        <p:spPr>
          <a:xfrm flipH="1">
            <a:off x="3048120" y="1295280"/>
            <a:ext cx="304560" cy="4267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"/>
          <p:cNvSpPr/>
          <p:nvPr/>
        </p:nvSpPr>
        <p:spPr>
          <a:xfrm flipV="1">
            <a:off x="304920" y="2437920"/>
            <a:ext cx="8839080" cy="1219320"/>
          </a:xfrm>
          <a:prstGeom prst="line">
            <a:avLst/>
          </a:prstGeom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216E-8F33-42EA-AEAD-B9DB19DCE3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oose an open ques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 could be your own (e.g., from yesterday), one of mine or one from a resourc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0034-0AFA-4D6B-B305-1EB36C31CF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33520" y="205740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rk with a partner to develop scaffolding questions that might help a student who doesn’t know how to start, without taking away the student’s need to think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A47-261D-46C6-9622-5B902BC030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25146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are your work with another pair at another tabl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E96-EE25-4AB6-99C2-AA65C801EC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57200" y="24382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 questions and parallel tasks are built for instruction. The focus is not on evaluation, but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B5C-0678-4F5D-96D8-BB80E11855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2438280"/>
            <a:ext cx="830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 makes total sense to use parallel tasks to measure communication and/or thinking and maybe (depending) knowledge or applica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EBD-48CD-4D98-B5F6-C2BBB91147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57200" y="1828800"/>
            <a:ext cx="80010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ask A: Think of a way to represent the pattern with the general term 3n +1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you know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-5335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92D9-4533-4C37-90B3-72329AF9FF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1828800"/>
            <a:ext cx="81532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ask B: Think of a way to represent a pattern where each term value is eight times the term number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-38088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3BA-8F0F-40CB-A7A8-2077E41D07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828800"/>
            <a:ext cx="7848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propose that this picture shows that                   4ab + (a – 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= (a+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matter what a and b ar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agre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Visual algeb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6400800" y="4800600"/>
            <a:ext cx="1523880" cy="1600200"/>
            <a:chOff x="6400800" y="4800600"/>
            <a:chExt cx="1523880" cy="1600200"/>
          </a:xfrm>
        </p:grpSpPr>
        <p:sp>
          <p:nvSpPr>
            <p:cNvPr id="104" name="Rectangle 5"/>
            <p:cNvSpPr/>
            <p:nvPr/>
          </p:nvSpPr>
          <p:spPr>
            <a:xfrm>
              <a:off x="6400800" y="480060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6705360" y="608040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 rot="5400000">
              <a:off x="7132320" y="528804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 rot="5400000">
              <a:off x="5913000" y="560844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4148-82BB-4BFF-B486-B85A80C620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09480" y="205740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 makes sense, even on a “test”, to use open tasks to ensure that students get an opportunity to tell as much as they know in whatever form works for them about an idea they have learned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04920" y="914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DEFF-8AFB-4D3E-A68E-2C446FD1BB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1905120"/>
            <a:ext cx="83055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nish this paragraph as thoroughly as you can. Make sure to justify what you s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think that linear relations are useful because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049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6001-B5BD-4486-B96F-22C75DC97B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09480" y="228600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use a previously shared rubric before posing such questions to help students meet succes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t is important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CF47-17A7-42FB-9AFB-C1A1D38BD8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85800" y="23623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though assessment of learning should drive what you teach, it should not limit the strategies you use to meet all students’ need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9DE7-955D-4F35-9F14-8B9426A21F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1676520"/>
            <a:ext cx="80773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ing at 1, using counting numbers, number off the people at your tabl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minute, you will move to an area for people with your nu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049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Number of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6D4-78BF-4327-8699-996F9533F9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09480" y="20574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ur “big idea” for CAMPPP is that if you think more broadly about what you are focusing on in instruction, you are more likely to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3049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E021-09E7-4730-8DA4-5DE0E0E990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609480" y="190512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elp students make essential conn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sure that students learn what is really importa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049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48B4-D48C-4166-9234-F80B31D69E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1430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sure that a much broader range of students can meet suc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3E7-5609-42CB-8BC6-8F959D5FD3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3520" y="1828800"/>
            <a:ext cx="8610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ying to convince someone of the value of big ideas and only had 1 minute, what would you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 with 3 people with your nu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f you wer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75C-65F4-4B92-8DD1-A6E7A027A9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09480" y="1752480"/>
            <a:ext cx="83059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ur CAMPPP big ideas are, as always, a work in progres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are encouraged to fine tune them with colleagues or on your ow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ut teach to them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Remember…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7921-CDE9-48C5-A23B-B0C84AFD58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do you see the 4ab in the pictu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 do you think that that part of the picture made sense for 4ab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7314840" y="5257800"/>
            <a:ext cx="1219680" cy="1295280"/>
            <a:chOff x="7314840" y="5257800"/>
            <a:chExt cx="1219680" cy="1295280"/>
          </a:xfrm>
        </p:grpSpPr>
        <p:sp>
          <p:nvSpPr>
            <p:cNvPr id="112" name="Rectangle 6"/>
            <p:cNvSpPr/>
            <p:nvPr/>
          </p:nvSpPr>
          <p:spPr>
            <a:xfrm>
              <a:off x="7315200" y="52578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559640" y="62946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 rot="5400000">
              <a:off x="7893360" y="565380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 rot="5400000">
              <a:off x="6918480" y="591228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AE50-35F8-45F8-8D10-34D5B4B57A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143000" y="243828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ur focus has been on differentiating instruction, not just practice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D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005A-031E-4624-A9BF-384309C605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09480" y="228600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want all students, from struggling to talented, to all meet success, but to be challenged and to find the math engag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D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F6B1-80DE-49F7-8049-71FAD5D7C3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33520" y="2438280"/>
            <a:ext cx="86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vince a colleague why differentiating instruction and not just practice is important and you have 1 min, what would you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f you want to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8BA-89DE-41E8-B9B1-3C1124B5B6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ree other people with your number and make your cas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Join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D587-31C9-4038-9A56-56DD28D68F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Back to sea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6419-7B52-43ED-92C2-599ECED119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609480" y="2286000"/>
            <a:ext cx="82296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lease feel welcome to ask any questions or offer any insights on what we’ve discussed in plenaries this week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kestell@sympatico.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C0C-9742-49CB-A87A-6E4B19434F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3520" y="2438280"/>
            <a:ext cx="79246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kind of shape would you look for to model          (a+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 that shap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4B6F-2FCB-42FF-98D7-97F06E40EE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981080"/>
            <a:ext cx="79246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two squares in the picture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is an (a+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nd        an  (a-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has to be which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7010280" y="2971800"/>
            <a:ext cx="2438640" cy="2409840"/>
            <a:chOff x="7010280" y="2971800"/>
            <a:chExt cx="2438640" cy="2409840"/>
          </a:xfrm>
        </p:grpSpPr>
        <p:grpSp>
          <p:nvGrpSpPr>
            <p:cNvPr id="123" name="Group 13"/>
            <p:cNvGrpSpPr/>
            <p:nvPr/>
          </p:nvGrpSpPr>
          <p:grpSpPr>
            <a:xfrm>
              <a:off x="7467480" y="3124080"/>
              <a:ext cx="1524240" cy="1599840"/>
              <a:chOff x="7467480" y="3124080"/>
              <a:chExt cx="1524240" cy="1599840"/>
            </a:xfrm>
          </p:grpSpPr>
          <p:sp>
            <p:nvSpPr>
              <p:cNvPr id="124" name="Rectangle 16"/>
              <p:cNvSpPr/>
              <p:nvPr/>
            </p:nvSpPr>
            <p:spPr>
              <a:xfrm>
                <a:off x="7467480" y="312408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7"/>
              <p:cNvSpPr/>
              <p:nvPr/>
            </p:nvSpPr>
            <p:spPr>
              <a:xfrm>
                <a:off x="7772400" y="440352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8"/>
              <p:cNvSpPr/>
              <p:nvPr/>
            </p:nvSpPr>
            <p:spPr>
              <a:xfrm rot="5400000">
                <a:off x="8199360" y="361152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9"/>
              <p:cNvSpPr/>
              <p:nvPr/>
            </p:nvSpPr>
            <p:spPr>
              <a:xfrm rot="5400000">
                <a:off x="6980040" y="393192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Box 12"/>
            <p:cNvSpPr/>
            <p:nvPr/>
          </p:nvSpPr>
          <p:spPr>
            <a:xfrm>
              <a:off x="7010280" y="36572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3"/>
            <p:cNvSpPr/>
            <p:nvPr/>
          </p:nvSpPr>
          <p:spPr>
            <a:xfrm>
              <a:off x="7391160" y="48002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4"/>
            <p:cNvSpPr/>
            <p:nvPr/>
          </p:nvSpPr>
          <p:spPr>
            <a:xfrm>
              <a:off x="8229600" y="48002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5"/>
            <p:cNvSpPr/>
            <p:nvPr/>
          </p:nvSpPr>
          <p:spPr>
            <a:xfrm>
              <a:off x="7010280" y="2971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7272-DA63-4587-8F9C-5AC5238D8D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213372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w I would ask---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lease draw a picture to show a different algebraic relationship that is always tru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Visual algeb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A5F1-969E-4C05-A374-BC6B2FBCC6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44136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 is x + 1 = 1 + x an algebraic relationship that is always tru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44136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kind of picture might show thi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6D59-191E-4083-8C06-6B92237F80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143000" y="243828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yb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685800" y="3581280"/>
            <a:ext cx="2895480" cy="1219320"/>
            <a:chOff x="685800" y="3581280"/>
            <a:chExt cx="2895480" cy="1219320"/>
          </a:xfrm>
        </p:grpSpPr>
        <p:sp>
          <p:nvSpPr>
            <p:cNvPr id="142" name="Rectangle 5"/>
            <p:cNvSpPr/>
            <p:nvPr/>
          </p:nvSpPr>
          <p:spPr>
            <a:xfrm>
              <a:off x="685800" y="3581280"/>
              <a:ext cx="289548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1447560" y="43434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7"/>
            <p:cNvSpPr/>
            <p:nvPr/>
          </p:nvSpPr>
          <p:spPr>
            <a:xfrm>
              <a:off x="1828800" y="35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"/>
            <p:cNvSpPr/>
            <p:nvPr/>
          </p:nvSpPr>
          <p:spPr>
            <a:xfrm>
              <a:off x="1523880" y="4419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6"/>
          <p:cNvGrpSpPr/>
          <p:nvPr/>
        </p:nvGrpSpPr>
        <p:grpSpPr>
          <a:xfrm>
            <a:off x="4800240" y="3428640"/>
            <a:ext cx="2895480" cy="1219320"/>
            <a:chOff x="4800240" y="3428640"/>
            <a:chExt cx="2895480" cy="1219320"/>
          </a:xfrm>
        </p:grpSpPr>
        <p:sp>
          <p:nvSpPr>
            <p:cNvPr id="147" name="Rectangle 27"/>
            <p:cNvSpPr/>
            <p:nvPr/>
          </p:nvSpPr>
          <p:spPr>
            <a:xfrm rot="10800000">
              <a:off x="4800240" y="4187160"/>
              <a:ext cx="2895480" cy="454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 rot="10800000">
              <a:off x="6476760" y="3428640"/>
              <a:ext cx="457200" cy="454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29"/>
            <p:cNvSpPr/>
            <p:nvPr/>
          </p:nvSpPr>
          <p:spPr>
            <a:xfrm rot="10800000">
              <a:off x="5644800" y="4279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0"/>
            <p:cNvSpPr/>
            <p:nvPr/>
          </p:nvSpPr>
          <p:spPr>
            <a:xfrm rot="10800000">
              <a:off x="5949720" y="34455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1:35:18Z</dcterms:created>
  <dc:creator>Peel District School Board</dc:creator>
  <dc:description/>
  <dc:language>en-US</dc:language>
  <cp:lastModifiedBy>Kathy Kubota-Zarivnij</cp:lastModifiedBy>
  <dcterms:modified xsi:type="dcterms:W3CDTF">2009-08-21T14:54:13Z</dcterms:modified>
  <cp:revision>32</cp:revision>
  <dc:subject/>
  <dc:title>Coaching for Math GAINS Professional Learning</dc:title>
</cp:coreProperties>
</file>